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0F84-BEE3-45BD-9E93-1B4EF92AE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4B3C-BAF2-48E7-BF38-A2872E425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28AE-A30F-4E52-8634-7BAACC629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FAB3-8B3B-4CD2-9F57-A5D1752BC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E35D-15FC-4D88-9631-177C91117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E556-560D-4249-BFD8-B61332D91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F9AD-CE60-4226-B4D4-DDA5F63F3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4C51-0915-429F-B2E4-B905928CC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B802-1788-428F-8078-10F0C45FF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42B7-1189-496D-BACE-13ABB13D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219C-6BD2-4F43-B17A-EFB5C5DB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FB1F-93FF-4F6E-8FB0-5BF854D7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D6AF9-A04B-473D-BC15-9A8819CD2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b-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6T14:21:25Z</dcterms:created>
  <dc:creator>Roger</dc:creator>
  <dc:description/>
  <dc:language>en-US</dc:language>
  <cp:lastModifiedBy>Roger</cp:lastModifiedBy>
  <dcterms:modified xsi:type="dcterms:W3CDTF">2010-07-29T12:47:43Z</dcterms:modified>
  <cp:revision>2</cp:revision>
  <dc:subject/>
  <dc:title>Title</dc:title>
</cp:coreProperties>
</file>